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3.png" ContentType="image/pn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5E6B-2C78-4E26-90C1-AA714020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475B-8330-4921-8D1B-A42B3809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8238-15D4-43FD-8715-932F64AB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EA8A-9CC9-41B7-88F4-78CF7766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159E-2A32-4F61-B9CB-69EA430F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695-1B1A-441C-A167-9B5AFBBF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F735-3D39-40B2-A9C6-A2F371E5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EEC-24F4-4E60-8489-CC0C917C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C05A-5DBD-4E15-B778-1581AF7E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A6A9-9455-49FF-9CFC-00350DBA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68B9-8EC5-42AA-8FD9-6C96E7EE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5826-4B47-4F5D-8523-FC8A0AED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C648-F742-43D8-94CD-9AF6BD7FA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293,31,&#24187;&#28783;&#29255; 31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第三节 工作满意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QQ截图20121009114858"/>
          <p:cNvPicPr/>
          <p:nvPr/>
        </p:nvPicPr>
        <p:blipFill>
          <a:blip r:embed="rId1"/>
          <a:stretch/>
        </p:blipFill>
        <p:spPr>
          <a:xfrm>
            <a:off x="250920" y="189000"/>
            <a:ext cx="8497800" cy="64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QQ截图20121009114919"/>
          <p:cNvPicPr/>
          <p:nvPr/>
        </p:nvPicPr>
        <p:blipFill>
          <a:blip r:embed="rId1"/>
          <a:stretch/>
        </p:blipFill>
        <p:spPr>
          <a:xfrm>
            <a:off x="324000" y="549360"/>
            <a:ext cx="83516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QQ截图20121009114939"/>
          <p:cNvPicPr/>
          <p:nvPr/>
        </p:nvPicPr>
        <p:blipFill>
          <a:blip r:embed="rId1"/>
          <a:stretch/>
        </p:blipFill>
        <p:spPr>
          <a:xfrm>
            <a:off x="900000" y="549360"/>
            <a:ext cx="7993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QQ截图20121009115003"/>
          <p:cNvPicPr/>
          <p:nvPr/>
        </p:nvPicPr>
        <p:blipFill>
          <a:blip r:embed="rId1"/>
          <a:stretch/>
        </p:blipFill>
        <p:spPr>
          <a:xfrm>
            <a:off x="428760" y="428760"/>
            <a:ext cx="860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工作满意度对员工绩效的影响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29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工作满意度与生产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快乐的工人是生产效率高的工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356760"/>
            <a:ext cx="818676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两者的关系中，我们常常看一见到四种不同的组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满意度高而工作绩效低：多为过去有不错的成绩，现在不求进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满意度虽低，绩效却较好：不干就没有工作，为了消除工作中的不满也寻求积极的满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满意度低，绩效也低：组织和员工都感到失望，员工不满于收入，领导不满于绩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满意度和绩效都高：这是在抓生产的同时，又不断满足员工个人的多样不断变化的需要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工作满意度与工作缺勤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研究发现，工作满意度与工作缺勤率之间存在稳定的负相关，相关达到中等水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通常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；但一些外部因素，如组织制度、社会事件等也会影响两者相关的程度。如果组织有病假工作制度，可以想象的结果是，有些即使非常满意的员工，也会设法休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工作满意度与工作流动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13840" y="1571760"/>
            <a:ext cx="692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工作满意度与流动率之间存在稳定的负相关；但其他因素，如劳动力市场的状况、改变工作机会的期望、任职时间的长短等，都会对是否真正离职起重要得限制作用。研究还发现，满意度与流动率关系的一个重要的中介变量是员工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绩效水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工作满意度对低绩效者的影响大于对高绩效者的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四）工作满意度与组织公民行为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组织公民行为是指员工对组织具有整体积极性贡献的行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总体上，工作满意感与组织公民行为之间的关系仅达到中等程度的相关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工作满意度与个体行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员工如何表达他们的不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722320" y="2935800"/>
            <a:ext cx="3559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积极性（主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退出                   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破坏性                                           建设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忽略                   忠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消极性（被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2916360" y="4221000"/>
            <a:ext cx="29509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4572000" y="2997360"/>
            <a:ext cx="0" cy="2303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工作满意度的含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工作满意度是指个人对自己所从事工作具有积极情感的程度。一般来说，个人的工作满意度越高，意味着此人对自己的工作持有积极的态度、有较多的正面评价，总体上喜欢他的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八角星 3"/>
          <p:cNvSpPr/>
          <p:nvPr/>
        </p:nvSpPr>
        <p:spPr>
          <a:xfrm>
            <a:off x="5929200" y="5000760"/>
            <a:ext cx="2071800" cy="1000080"/>
          </a:xfrm>
          <a:custGeom>
            <a:avLst/>
            <a:gdLst>
              <a:gd name="textAreaLeft" fmla="*/ 486360 w 2071800"/>
              <a:gd name="textAreaRight" fmla="*/ 1585440 w 2071800"/>
              <a:gd name="textAreaTop" fmla="*/ 234720 h 1000080"/>
              <a:gd name="textAreaBottom" fmla="*/ 76536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侧面满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总体满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六、提高工作满意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心理挑战性的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公平的报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支持性的工作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融洽的同事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000" y="475920"/>
            <a:ext cx="86756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案例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张小姐是一家软件公司的销售主管，能力强，热爱工作，成绩显著。今年被派到她喜欢的上海分公司，升任销售经理，薪水也增加了。但是，近期她工作不但没有热情，甚至还有辞职的念头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什么升职、加薪反而要辞职呢？经了解得知：原来，引起张小姐不满的原因来自她的上司。她的上司对张小姐刚到上海工作颇不放心，担心她做不好工作，总是安排一些很简单的工作，并且在张小姐工作时也经常干预。张小姐工作能力较强，习惯独立思考问题、解决问题，对上司的频繁干预，张小姐非常不习惯，并逐渐导致不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从这个案例中能够得到什么启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何提高员工的工作满意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金钱能买到快乐？大家对这句话怎么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个案例应当引起管理者关注，仅仅加薪、晋级不一定能有效激励员工，使得员工满意，还应该根据下属的特点，做好其他方面的工作。比如，张小姐的上司应该花一定的时间了解下属，在了解的基础上信任下属，给她舞台让她充分发挥。当然，要让下属长期保持旺盛的士气，决非如此简单。还应当采取许多其它使他满意的方法，比如：尊重、关爱、赞美、宽容下属等。还有，提供适当的竞争环境、给下属指出奋斗的目标、帮助下属规划出其发展的蓝图、恰到好处的批评等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说到提高员工满意度，很多人就会想到“薪水”和“奖金”，这些固然重要，但是作为管理者，还必须掌握其他的激励方法，尤其是那些无“薪”的激励，则更能体现出管理者领导能力和企业管理水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475920"/>
            <a:ext cx="8424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每周一次公司范围内的沟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让员工知道公司这一周的销售情况、重要交易、经营业绩和重大事项，这可以使员工及时了解公司的情况，尤其是那些振奋人心的合同、业绩、人物和事件能够很大程度上鼓励和刺激员工，激发大家的荣誉感和归属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每周一次的上下级沟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每周一次的沟通不仅可以及时发现工作中的问题，而且可以增进双方的感情和关系。沟通并非“独角戏”，而是“交际舞”，需要双方密切配合。一方面要求主管能够循循善诱，让员工打开心扉，畅谈工作中和思想上的问题和建议，另一方面，也要求员工能够开诚布公，畅所欲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让工作更有挑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没有人喜欢平庸，尤其对于那些年纪轻、干劲足的员工来说，富有挑战性的工作和成功的满足感，比实际拿多少薪水更有激励作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让员工制定弹性的工作计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传统目标管理的办法，是自上而下进行的，优点是可以将公司目标进行层层分解，落实到部门和岗位，缺点是缺乏灵活性，目标相对是固定的，但外界环境的变化导致目标的不可行或者无法完成，从而引起考核者与被考核者的矛盾。为了解决这样的矛盾，管理者要充分授权，给予员工更大的权利和自主空间，可以让员工制定弹性的工作计划，自己来安排完成目标的时间和方式，并可以在一定程度内进行目标调整，从而充分调动员工的积极性，激发员工的工作热情和创造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建立员工兴趣小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以由公司组建各种兴趣小组或俱乐部，比如书画小组、棋牌小组、文艺小组等等，并组织大家定期举行活动，公司给予一定的经费支持，这样的兴趣小组能很好的增进各部门之间员工的交流，提高组织的和谐度和凝聚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四节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工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压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点内容：认识压力并管理压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764640"/>
            <a:ext cx="85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什么是压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压力是环境要求你做出选择或改变时的个人感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压力是对未知事件悲观解释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%E7%A8%8B%E5%BA%8F%E7%AE%97%E6%B3%95%E4%B8%8E%E4%BA%BA%E7%94%9F%E9%80%89%E6%8B%A9"/>
          <p:cNvPicPr/>
          <p:nvPr/>
        </p:nvPicPr>
        <p:blipFill>
          <a:blip r:embed="rId1"/>
          <a:stretch/>
        </p:blipFill>
        <p:spPr>
          <a:xfrm>
            <a:off x="5148360" y="3789360"/>
            <a:ext cx="3828960" cy="2809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W020090518343329626945"/>
          <p:cNvPicPr/>
          <p:nvPr/>
        </p:nvPicPr>
        <p:blipFill>
          <a:blip r:embed="rId2"/>
          <a:stretch/>
        </p:blipFill>
        <p:spPr>
          <a:xfrm>
            <a:off x="468360" y="2924280"/>
            <a:ext cx="4286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压力是持续不断的精力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压力是面临威胁的本能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W020101021498425985641"/>
          <p:cNvPicPr/>
          <p:nvPr/>
        </p:nvPicPr>
        <p:blipFill>
          <a:blip r:embed="rId1"/>
          <a:stretch/>
        </p:blipFill>
        <p:spPr>
          <a:xfrm>
            <a:off x="1835280" y="3933720"/>
            <a:ext cx="3166920" cy="2116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a8014c086e061d9505f312e87af40ad163d9caac"/>
          <p:cNvPicPr/>
          <p:nvPr/>
        </p:nvPicPr>
        <p:blipFill>
          <a:blip r:embed="rId2"/>
          <a:stretch/>
        </p:blipFill>
        <p:spPr>
          <a:xfrm>
            <a:off x="6227640" y="1341360"/>
            <a:ext cx="24098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压力存在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压力给生活带来乐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环境压力促进人类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4544694973971020200"/>
          <p:cNvPicPr/>
          <p:nvPr/>
        </p:nvPicPr>
        <p:blipFill>
          <a:blip r:embed="rId1"/>
          <a:stretch/>
        </p:blipFill>
        <p:spPr>
          <a:xfrm>
            <a:off x="4067280" y="3284640"/>
            <a:ext cx="45622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712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压力的心理模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潜在压力源、个体差异、结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6" descr="微信图片_20181104220329.jpg"/>
          <p:cNvPicPr/>
          <p:nvPr/>
        </p:nvPicPr>
        <p:blipFill>
          <a:blip r:embed="rId1"/>
          <a:stretch/>
        </p:blipFill>
        <p:spPr>
          <a:xfrm>
            <a:off x="571680" y="1928880"/>
            <a:ext cx="7616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-360" y="14292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哈佛大学一项调查研究表明：员工满意度每提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个百分点，顾客满意度就提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个百分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员工满意度的提高还可以降低企业人才流失，哈佛商业周刊报道，每降低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人员流动率可以使企业降低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运作成本并且提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%—65%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劳动生产率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美国一家人力资源咨询公司翰威特从“最佳雇主调查”中得出一个结论：员工满意度达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0%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公司，平均利润率增长要高出同行业其他公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左右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中消研公司调查开展的多项关于满意度的研究结果显示：只有员工满意，才能带来客户满意，才能使企业产生持续的利润增长，而不满意的员工则会以不同的方式导致公司的各项工作事倍功半，带来的结果是“较高的员工流动率”、“较低的生产效率”以及“下属的不忠诚”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压力的特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积极压力与消极压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压力的累积效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压力与工作绩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压力与控制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m_573441_be01c1e2-4f72-4c07-bfd2-be4f052c0cb4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YF36~1"/>
          <p:cNvPicPr/>
          <p:nvPr/>
        </p:nvPicPr>
        <p:blipFill>
          <a:blip r:embed="rId1"/>
          <a:stretch/>
        </p:blipFill>
        <p:spPr>
          <a:xfrm>
            <a:off x="684360" y="189000"/>
            <a:ext cx="809604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压力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人：时间管理、加强锻炼、及时倾诉、寻求帮助、学会放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组织：改善甄选过程、进行有效的目标管理、重新设计工作、员工健康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8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说说你的压力和调节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工作满意度的调查与测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工作满意度的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职务描述指数量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常用的工作满意度测量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史密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量表要求描述总共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方面的内容，即工作、监督、报酬、晋升、同事。每项内容有若干问题，用“是、否”进行回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洛克的工作满意度量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洛克提出的员工满意度构成的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因素：工作本身、报酬、提升、认可、工作条件、福利、自我、管理者、同事和组织外成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明尼苏达满意问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明尼苏达满意问卷的简单形式共有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问题，涉及一般满足、内在满足、外在满足等部分，包括对报酬、晋升机会、同事等的满意度和认识等。在每个题目后的满意度分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级回答。累加结果并与常模进行比较。量表的复杂形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题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面孔量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29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该量表是库宁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Kuni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创造的一种满意度评价方法，也从五个方面评价，只不过答题不用文字，要求在一系列不同情绪的面孔上进行选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712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单一整体评估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把所有的因素考虑在内，你对自己的工作满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上凸带形 3"/>
          <p:cNvSpPr/>
          <p:nvPr/>
        </p:nvSpPr>
        <p:spPr>
          <a:xfrm>
            <a:off x="4714920" y="4929120"/>
            <a:ext cx="4429080" cy="1071720"/>
          </a:xfrm>
          <a:custGeom>
            <a:avLst/>
            <a:gdLst>
              <a:gd name="textAreaLeft" fmla="*/ 1107360 w 4429080"/>
              <a:gd name="textAreaRight" fmla="*/ 3322080 w 4429080"/>
              <a:gd name="textAreaTop" fmla="*/ 0 h 1071720"/>
              <a:gd name="textAreaBottom" fmla="*/ 893160 h 10717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如果把所有的因素考虑在内，你对华电满意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影响工作满意度的因素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378080" y="1677600"/>
            <a:ext cx="65577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QQ截图20121009114819"/>
          <p:cNvPicPr/>
          <p:nvPr/>
        </p:nvPicPr>
        <p:blipFill>
          <a:blip r:embed="rId1"/>
          <a:stretch/>
        </p:blipFill>
        <p:spPr>
          <a:xfrm>
            <a:off x="1214280" y="2071800"/>
            <a:ext cx="66247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03:53:31Z</dcterms:created>
  <dc:creator>雨林木风</dc:creator>
  <dc:description/>
  <dc:language>en-US</dc:language>
  <cp:lastModifiedBy>Administrator</cp:lastModifiedBy>
  <dcterms:modified xsi:type="dcterms:W3CDTF">2022-12-22T11:10:37Z</dcterms:modified>
  <cp:revision>33</cp:revision>
  <dc:subject/>
  <dc:title>第三节 工作满意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688EEDDDB334600AC2BE0EA522A8872</vt:lpwstr>
  </property>
  <property fmtid="{D5CDD505-2E9C-101B-9397-08002B2CF9AE}" pid="3" name="KSOProductBuildVer">
    <vt:lpwstr>2052-11.1.0.12598</vt:lpwstr>
  </property>
</Properties>
</file>